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3AA1-50D9-48F1-8D85-073F57C9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E32F-5EE4-4FED-AE22-B9EE4746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A1AB-63C6-4807-8178-48D112C9D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3A44-8D3C-4F11-B89A-FC7B3582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D031-D863-457F-83F6-22FF1875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C1EF-7EDE-439C-861F-A0DDF67E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29A0-B900-4A6C-A2AB-52AA89FF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ADD7-F657-4E94-AE86-498E55B0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39EC-2F58-4CF2-B91A-83C4C43F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8D43-36FD-478F-96A4-CD1192C0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E510-960C-41FD-B7F9-39D3A963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6909-92F2-4058-BFAD-FA76F4FE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B87F-1DED-41DB-8257-7FB9CED3C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4321080" cy="3645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 rot="407400">
            <a:off x="1692000" y="188640"/>
            <a:ext cx="5040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LA GLOBALIZZAZION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19280" y="2060640"/>
            <a:ext cx="2951280" cy="1295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LOBALIZZ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817400">
            <a:off x="468000" y="260280"/>
            <a:ext cx="2558880" cy="1811520"/>
          </a:xfrm>
          <a:prstGeom prst="rightArrow">
            <a:avLst>
              <a:gd name="adj1" fmla="val 50000"/>
              <a:gd name="adj2" fmla="val 35314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MIGLIORAM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MEZZI D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TRASPOR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00720" y="2852640"/>
            <a:ext cx="1223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3213000"/>
            <a:ext cx="1008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12000" y="3645000"/>
            <a:ext cx="151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005360"/>
            <a:ext cx="1512720" cy="863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ILI DI VI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IU’ SIMI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84720" y="1844640"/>
            <a:ext cx="2089440" cy="647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DUZIONE DISTAN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851280" y="1412640"/>
            <a:ext cx="936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88000" y="620640"/>
            <a:ext cx="2522520" cy="863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IBERAZIONI CIRCOLAZIO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I MER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9100400">
            <a:off x="0" y="3284280"/>
            <a:ext cx="3019320" cy="2352600"/>
          </a:xfrm>
          <a:prstGeom prst="rightArrow">
            <a:avLst>
              <a:gd name="adj1" fmla="val 50000"/>
              <a:gd name="adj2" fmla="val 32085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MIGLIORAM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MEZZI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COMUNICAZIONE</a:t>
            </a:r>
            <a:r>
              <a:rPr b="0" lang="it-IT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356000" y="2204640"/>
            <a:ext cx="172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3213000"/>
            <a:ext cx="2374920" cy="863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IBERA CIRCOLAZIONE D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ERS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64360" y="4005360"/>
            <a:ext cx="5032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4941720"/>
            <a:ext cx="3024360" cy="719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MMIGRAZI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 CITTA’ MULTICULTUR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9:38:47Z</dcterms:created>
  <dc:creator>studente</dc:creator>
  <dc:description/>
  <dc:language>en-US</dc:language>
  <cp:lastModifiedBy>studente</cp:lastModifiedBy>
  <dcterms:modified xsi:type="dcterms:W3CDTF">2017-01-09T09:04:33Z</dcterms:modified>
  <cp:revision>6</cp:revision>
  <dc:subject/>
  <dc:title>Diapositiva 1</dc:title>
</cp:coreProperties>
</file>